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631-A695-440B-8B73-292B4363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FC4-74A7-4D86-AA48-581AC65E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5A4-E72F-4297-9C78-C444AFFB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9C1-469E-4E5D-AB73-17BAD687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655-E1E3-4C9C-8F81-6C5247C3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CDC8-2F81-4C6C-8C33-67FEB1C4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7B1-AE2B-4C83-B731-A09F7F8B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BA7-C358-4245-BDA1-E6E0FAAE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5FE-CB3A-426E-971A-01170B58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B0ED-B9B3-423B-A2C6-DCA65CA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D14-0C75-4B3B-A74B-45B8C551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DC6-1E40-4B7F-9CA8-480613AB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D06395-3CCB-4E12-BEDD-1B947CFAAF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B6031-7897-442F-85C6-0A484EBBD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Set of Sight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ss Bangs’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an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The cat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and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dog eat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mb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h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He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sees me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n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I said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no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zoom dir="in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a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at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school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i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The cat is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in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lik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like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hot dogs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lus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do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Do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you like me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you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The boy yelled at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you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I see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a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dog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bo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boy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cries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ca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Can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I stop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trips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ca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cat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can meow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m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I like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me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I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see a cat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se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see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mom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newsflash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2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stop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the pig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9:05:25Z</dcterms:created>
  <dc:creator>teacher</dc:creator>
  <dc:description/>
  <dc:language>en-US</dc:language>
  <cp:lastModifiedBy>Nick</cp:lastModifiedBy>
  <dcterms:modified xsi:type="dcterms:W3CDTF">2009-10-07T02:30:46Z</dcterms:modified>
  <cp:revision>13</cp:revision>
  <dc:subject/>
  <dc:title>1st Set of Sight Words</dc:title>
</cp:coreProperties>
</file>